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20866-FDCD-43A6-872A-921729FFAF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62282-34E0-4435-AFE5-CD3C76D6CD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3FF71-D060-4F14-AD7A-6F6EBCC593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D3ED0-73DB-435E-998E-92BD2A8948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4763D-9448-4766-841F-0AC1DD874F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F24F2-3D43-4F6A-AA13-E251ED5CE7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FC554-032C-40B4-A9CB-469C6C828D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9FFE2-E960-47B0-B684-8D58F11A57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D13BD-410D-4CF1-A823-5CF362BFDC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861D7-8DA4-40D0-B399-0D5F9717FC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1431B-D0D0-43D9-994C-F39A231A17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DB416-6B2D-4B4A-B074-35FB8DADE6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1D86B-CA66-43A2-BBAF-340B70AE79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52B82-07C7-4FC5-BEE6-64E2CF9A5D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7A33C-C415-471A-BFB5-C4583F18AC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90183-711F-432E-816E-295B02BC87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B941E-A73A-45D8-9B05-E346488214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23B4E-F40A-499E-8CE4-E2D9B6AEA7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50C5B-1BB5-4B72-AFFC-E462E09D18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6937A-F786-4C78-ACF3-88061EBDCE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ADEEB-A427-444B-B2DC-53490D1CE8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5FE22-CC58-4128-90F6-5212AB6152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F9574-C31D-4866-ABF4-D815B3AB90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47CD6-BAD2-4E5D-A9AD-9731B14BD7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22B2E-F49E-4EBD-972F-B25DE5299E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679C6-6405-4653-96B2-4D8F30CDB6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99E-FECA-4389-8018-88333BAF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C52-6D81-466E-A5BC-21589DF9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158-A3C6-4C62-BA06-069B33EB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9A6-D1FC-4B96-A993-1010D190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34F3-FF4B-45BA-B72D-F7D8AA8B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F7D3-966A-4F8D-9D7B-C8BE0FDE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FCAB-6825-4C52-A529-2CC11A4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D03E-8D09-4FDB-85F1-E783D1D3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F66C-41ED-4E7C-9B44-5FEA7C36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0417-9CB0-4948-A6CF-BCBDD293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4F5E-0464-44B3-B9F2-A8D6D99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CAA-31A8-419C-ACCC-56D88E0C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9797-4267-48F0-AD02-F5252C9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7686-4792-467F-B3D4-C8984C8A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1C85-72B4-41B4-A683-66020F62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EAB1-5207-46CF-A3D4-49B93D16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AC37-F520-42EF-9594-D056A0E5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A39-9075-4F51-8AF7-F986A987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4C0-D3E7-40C3-AF94-EE41F346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A3E-754B-43F9-ACF7-9C1D5F9E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2A9-9C53-4E36-9888-13274F7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C74-122F-47F7-BF83-3989D02F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B4D-8234-451C-8480-636F961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2F4-535C-4E42-95CD-DBC0FC0D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ECE61A-ABE6-4D6B-9ED8-868B06B0D23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AA82A-6295-4C20-A94D-EA7C09BC08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0000" y="896760"/>
            <a:ext cx="6480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Чудо – птица,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лый хвост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Прилетела  в стаю звёзд</a:t>
            </a:r>
            <a:br>
              <a:rPr sz="44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2989440" y="3860640"/>
            <a:ext cx="2885760" cy="26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Циолковский Константин Эдуардови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160720" y="1619280"/>
            <a:ext cx="504036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олёв Сергей Павлови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5690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вый космический спутни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кета Сергея Павловича Королёва, в которой полетел Юрий Гагарин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26920" y="1879560"/>
            <a:ext cx="777744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Юрий Алексеевич Гагарин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й космонав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2340000" y="1601640"/>
            <a:ext cx="4357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000" y="-62280"/>
            <a:ext cx="8510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нщины – космонавты Валентина                      Светлан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решкова                     Савицка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50840" y="1700280"/>
            <a:ext cx="3700440" cy="489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8894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стояние невесом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Еда космонавт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50920" y="1349280"/>
            <a:ext cx="864216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Не месяц, не луна,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не планета, не звезда,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о небу летает, 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амолеты обгоняет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Объект 5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2526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Энгельс – место приземления Юрия Гагар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250920" y="1676520"/>
            <a:ext cx="864216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-184680"/>
            <a:ext cx="8510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632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треча Юрия Гагарина в Москве после полё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ллея космонавт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0" y="1557360"/>
            <a:ext cx="4356000" cy="504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572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ощадь Гагари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482616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Гагарин  - Дом – музей Юрия Гагар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424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л. Академика Королё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6760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По тёмному небу рассыпан горошек</a:t>
            </a:r>
            <a:br>
              <a:rPr sz="32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   Цветной карамели из сахарной крошки</a:t>
            </a:r>
            <a:br>
              <a:rPr sz="32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   И только тогда, когда утро настанет,</a:t>
            </a:r>
            <a:br>
              <a:rPr sz="32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   Вся карамель та внезапно растает. 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2627280" y="3500280"/>
            <a:ext cx="417672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6160" y="938160"/>
            <a:ext cx="77724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 космосе сквозь чащу лет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Ледяной летит объект.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Хвост его  - полоска света,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А зовут объект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409752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кусственные спутники  и межпланетные станц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370836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4859280" y="1484280"/>
            <a:ext cx="404820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tretch/>
        </p:blipFill>
        <p:spPr>
          <a:xfrm>
            <a:off x="0" y="4292640"/>
            <a:ext cx="4067280" cy="256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5"/>
          <a:stretch/>
        </p:blipFill>
        <p:spPr>
          <a:xfrm>
            <a:off x="5076720" y="4292640"/>
            <a:ext cx="3888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лескопы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1413000"/>
            <a:ext cx="4788000" cy="525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3888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лнечная система: Меркурий, Венера, Земля, Марс, Юпитер, Сатурн, Уран, Нептун, Плутон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77880" y="1703520"/>
            <a:ext cx="7740720" cy="46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0:20:59Z</dcterms:created>
  <dc:creator>123</dc:creator>
  <dc:description/>
  <dc:language>en-US</dc:language>
  <cp:lastModifiedBy>User</cp:lastModifiedBy>
  <dcterms:modified xsi:type="dcterms:W3CDTF">2003-12-31T18:59:04Z</dcterms:modified>
  <cp:revision>9</cp:revision>
  <dc:subject/>
  <dc:title>ДЕНЬ КОСМОНАВТИКИ</dc:title>
</cp:coreProperties>
</file>